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BCA2-721F-46C1-A3DF-76269C0CE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994C5-899B-46EF-B78A-01744B91D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F107-170B-4E42-AFCB-0D7553756C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36C3-C44F-4A82-B44C-410E8B52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529E-DCE3-425C-9071-656E722CD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E7C2-D291-4BFB-950C-FAE1A5BD6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4798-81B2-4851-A541-96ED96E6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13E9-C924-4CE0-9F1F-A5661A183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D177-C165-4D69-90D8-1E0D2D98B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0240-52B4-472B-8534-C9A0B7442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B139-C1FD-4A3A-B96F-B5BE770C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87D2F-F7D5-449C-B105-B69F0A8E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837E3-B08D-44C5-BA05-C2568A60BA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428760" y="1143000"/>
            <a:ext cx="80499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1301112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5T04:55:26Z</dcterms:created>
  <dc:creator>harry doorn</dc:creator>
  <dc:description/>
  <dc:language>en-US</dc:language>
  <cp:lastModifiedBy>harry doorn</cp:lastModifiedBy>
  <dcterms:modified xsi:type="dcterms:W3CDTF">2010-05-05T05:40:22Z</dcterms:modified>
  <cp:revision>2</cp:revision>
  <dc:subject/>
  <dc:title>Slide 1</dc:title>
</cp:coreProperties>
</file>